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15B-BE2E-4376-9CA7-73562579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EBE0-F9A0-448D-BBE9-372FD3510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2578-5393-4258-B840-2FED6F2E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5ECE-29F3-4FB2-B51B-2494A5DB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3D20-4509-4BE6-9304-EC4E94FA5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0E15-8107-4795-82BF-E7542383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42D8A-B849-437D-AE82-87CF0158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EE50-21B6-44F5-823F-B36B22A6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DF28-18FD-49C2-ABBD-1722C51C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4975-7FCE-417C-AA82-605E2FB7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332E-AE6C-4EFF-AC95-8A8E1676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EB37-ED13-4910-A536-5D75AB4A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E6237-5E4F-4EDF-A156-04F47280F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763D-7DDC-47F5-A891-01E0EBA4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8FDD-80A1-43B7-BB0A-1B63E7F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E3AA-B4CC-43B5-A586-E1A45D830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0C3A3-0EBA-4700-BCFE-7A857F6A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CAB5-6DA6-4462-BDF3-BFCBE89F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6A15-0F2B-4B7B-9606-38603F39B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D58C-0E38-488A-AF7C-612BAFA4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8A5-2ACF-4F02-BCE9-9CD07275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453-8A24-483B-AE55-82C04808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BA3F-4D70-45C3-B0D7-631FAE32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5988-AD54-4739-ABA6-59513FE6E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CF105-7353-43FA-AF80-5FFAE7460D33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79A3-F5D2-4120-933F-9E043BA5CCA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48680" y="856800"/>
            <a:ext cx="673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U N I V E R S I T À     D E G L I      S T U D I   D I   C A T A N I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F   A   C   O   L   T   À        D   I        I   N   G   E   G  N   E   R   I  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r" pos="449280"/>
                <a:tab algn="r" pos="2162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Corso   di       Ingegneria Costier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54080" y="3406680"/>
            <a:ext cx="7047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ercitazione 1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imensionamento di un frangiflutti a scoglie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52560" y="822240"/>
            <a:ext cx="885600" cy="9367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1555-139C-4169-B1F9-6A9CBA34C21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arghezza del corona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189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F35A-7954-497B-952E-E4C53E1039B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2590920"/>
            <a:ext cx="7619760" cy="230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a larghezza del coronamento è funzione dei valori ammessi di overtopping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non è ammesso overtopping la larghezza del coronamento non è un elemento critico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e è ammissibile un leggero overtopping una larghezza pari ad almeno 3 elementi della mantellata o 3 metri è richiest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123920" y="5105520"/>
                <a:ext cx="178272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k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rPr>
                        <m:lit/>
                        <m:nor/>
                      </m:rPr>
                      <m:t xml:space="preserve">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2971800" y="5105520"/>
            <a:ext cx="548964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ove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W = peso medio dell’unità della mantell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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a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peso specifico dell’elemento della mantell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k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= coefficiente di spessore dello stra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smiss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101080" y="189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DE38-EA44-4145-80DC-3E59C31A6F50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2362320"/>
            <a:ext cx="38102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ipende da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truttura e geometria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ofondità dell’acqu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(quota di imbasamento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alla permeabilità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alle caratteristiche dell’ond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Appare quindi opportuno ricorrere a prove in vasca o a modelli numerici piuttosto raffinati.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uttavia, nei casi più semplici è possibile adottare la seguente formule di Van der Meer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=0.8 per -2.0&lt;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&lt;-1.1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=0.46-0.3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per -1.13&lt;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&lt;1.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t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=0.1 per 1.2&lt;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R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/</a:t>
            </a:r>
            <a:r>
              <a:rPr b="0" i="1" lang="it-IT" sz="18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Times New Roman"/>
              </a:rPr>
              <a:t>s</a:t>
            </a:r>
            <a:r>
              <a:rPr b="0" lang="it-IT" sz="1800" spc="-1" strike="noStrike">
                <a:solidFill>
                  <a:srgbClr val="003366"/>
                </a:solidFill>
                <a:latin typeface="Times New Roman"/>
              </a:rPr>
              <a:t>&lt;2.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0000" y="2825640"/>
          <a:ext cx="4464000" cy="40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000" y="2825640"/>
                    <a:ext cx="4464000" cy="40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mantellat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7A34-25B6-4740-9131-A08223E02CA9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42756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Formula di Hudso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224240" y="3257640"/>
                <a:ext cx="231948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α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ρ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1066680" y="4417920"/>
            <a:ext cx="723924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n-US" sz="1800" spc="-1" strike="noStrike" baseline="-25000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è un coefficiente di stabilità che dipende da varie grandezze (tipo di masso e forma, posizionamento nella struttura, grado di danneggiamento considerato accettabile)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mantellat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FBD5-76CC-4C5B-A06A-F23BEC27D87A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8749" t="9140" r="17188" b="4837"/>
          <a:stretch/>
        </p:blipFill>
        <p:spPr>
          <a:xfrm>
            <a:off x="2411280" y="2471760"/>
            <a:ext cx="449604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mantellat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339F0-4901-4CC6-9BA8-5CC695B0BECE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14844" t="34412" r="13282" b="38710"/>
          <a:stretch/>
        </p:blipFill>
        <p:spPr>
          <a:xfrm>
            <a:off x="1371600" y="3048120"/>
            <a:ext cx="701028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mantellata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C2A2-F489-41D8-AAAA-5DAFE1F111B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15626" t="9140" r="16405" b="4837"/>
          <a:stretch/>
        </p:blipFill>
        <p:spPr>
          <a:xfrm>
            <a:off x="2133720" y="2443320"/>
            <a:ext cx="4800600" cy="44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fondità della mantell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B6CD-0410-4743-8563-07FBFFF78889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266688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a mantellata deve estendersi fino a una profondità pari a 1.5 volta l’altezza d’onda di progetto.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e la struttura è imbasata a una profondità inferiore la mantellata dovrà estendersi fino al fond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Il peso delle unità costituenti la mantellata secondaria tra –1.5 H e –2 H dovrebbe essere approssimativamente pari alla metà del peso delle unità della mantellata principale. Al di sotto della batimetrica –2 H il peso richiesto si riduce a cinca 1/15 del peso dell’unità della mantellata principal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pessore della mantella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C77B-9760-40AC-BB79-787936FF090E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3241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 spessore della mantellata può essere calcolato dalla relazion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743200" y="2538360"/>
                <a:ext cx="13190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685800" y="345744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 cui n è il numero di strati da porre in oper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l numero di elementi per unità di area sarà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838080" y="4572000"/>
                <a:ext cx="25322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k</m:t>
                        </m:r>
                      </m:e>
                      <m:sub>
                        <m:r>
                          <m:t xml:space="preserve">Δ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W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1068480" y="5334120"/>
            <a:ext cx="14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 = porosit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8594" t="15593" r="3127" b="34946"/>
          <a:stretch/>
        </p:blipFill>
        <p:spPr>
          <a:xfrm>
            <a:off x="3505320" y="4562640"/>
            <a:ext cx="563868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gli strati filt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A9AA-34EC-480E-AA19-C18343927A09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22860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Gli strati filtro garantiscono che il materiale costituente il nucleo non venga dispers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2895480"/>
            <a:ext cx="77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 requisiti son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revenire la fuoriuscita di materiale fin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Consentire una sufficiente porosità per evitare che la pressione interna al frangiflutti cresca fino a causare instabilità o liquefazione nel caso estrem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4343400"/>
            <a:ext cx="71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er materiale assortito (tout venant di cava) sotto azione statica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467480" y="4267080"/>
                <a:ext cx="755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685800" y="480060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otto l’azione dinamica (moto ondoso)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876920" y="4724280"/>
                <a:ext cx="13176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6248520" y="4724280"/>
                <a:ext cx="160020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W</m:t>
                        </m:r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ase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685800" y="5791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imensioni raccomandat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3657600" y="5334120"/>
          <a:ext cx="4632480" cy="1515960"/>
        </p:xfrm>
        <a:graphic>
          <a:graphicData uri="http://schemas.openxmlformats.org/drawingml/2006/table">
            <a:tbl>
              <a:tblPr/>
              <a:tblGrid>
                <a:gridCol w="1230480"/>
                <a:gridCol w="795240"/>
                <a:gridCol w="2606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trat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s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apporto diametro equivalent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antellat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/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° strato filtr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/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1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° strato filtr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/2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ucle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W/400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 letto di po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AB6F-1D5D-4C77-9093-86BC5535B8FC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5800" y="22860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È lo strato posto tra la struttura e la fondazione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87200" indent="-187200"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a lo scopo di prevenire la fuoriuscita di materiale, lo sviluppo di sovrappressioni e prevenire assestamenti eccessiv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187200" indent="-187200"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eve essere sempre realizzato tranne in caso di profondità superiori a 3Hmax, modeste correnti previste e fondazione su materiale roccios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4495680"/>
            <a:ext cx="7238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7680" indent="-28576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ndo in materiale coesivo: non richiede uno stato filtro, toutvenant di cava può essere messo in opera per ridurre assestamenti e scavi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7680" indent="-28576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ndo in ciottoli grossolani: non richiede uno strato filtr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2857680" indent="-28576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ndo in materiale sabbioso: richiede uno strato filtro per prevenire la fuga di sabbia attraverso i vuoti della struttura causando cedimenti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escrizione genera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2951-86F5-4EF0-8B41-FE11202EFD16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98560" y="234936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 frangiflutti a scogliera sono usati per proteggere i porti e le spiagge dall’azione del moto ondoso. Inoltre sono anche usati per proteggere i canali di navigazione e le spiagge dal trasporto dei sediment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352680"/>
            <a:ext cx="7345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’energia del moto ondoso incidente viene principalmente dissipata dal frangimento dell’onda, in parte riflessa verso il mare aperto e in parte trasmessa oltre il frangiflutti per </a:t>
            </a:r>
            <a:r>
              <a:rPr b="0" i="1" lang="en-US" sz="1600" spc="-1" strike="noStrike">
                <a:solidFill>
                  <a:srgbClr val="003366"/>
                </a:solidFill>
                <a:latin typeface="Arial"/>
              </a:rPr>
              <a:t>overtopping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o penetrazio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19720"/>
            <a:ext cx="734544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 generale i frangiflutti a scogliera sono costituiti da diversi strati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antella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no o più strati filtr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Nucle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Berma al pied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Sovrastruttura in calcestruzz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 letto di pos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63E7-DA44-49AB-9B5C-7360F441A3F3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22860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iteri di dimensionamento dello strato fil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260496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 prevenire la fuoriuscita di materiale della fondazion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6775560" y="2514600"/>
                <a:ext cx="10731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685800" y="426708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Criteri di stabilità dall’attacco del moto ondos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 spessore del letto di posa deve essere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-3 volte il diametro della pietra più gran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0 cm per sabbia gross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0 cm per ghia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 garantire la stabilità della fondazione lo spessore del letto di posa deve essere almeno 60 c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l letto di posa si deve estendere orizzontalmente per circa 1,5 metri oltre il piede della mantella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962760" y="3124080"/>
                <a:ext cx="8622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2" name=""/>
          <p:cNvSpPr/>
          <p:nvPr/>
        </p:nvSpPr>
        <p:spPr>
          <a:xfrm>
            <a:off x="685800" y="321480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 prevenire l’eccessivo incremento di pressione nei por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4572000" y="3657600"/>
                <a:ext cx="314964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6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b>
                        </m:sSub>
                      </m:den>
                    </m:f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teriale ben assortit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373392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er mantenere la stabilità del filtr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berma al pied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08BBD-96A0-4CE9-A92F-5F8142518BEB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2770200"/>
            <a:ext cx="8381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Non esistono criteri rigorosi in quanto il dimensionamento è complicato dall’interazione tra le strutture principali, le forze idrodinamiche e il suolo di fondazione. In genere si provvede a dimensionamenti ad hoc e prove di laboratori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e funzioni della protezione al piede son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upportare la mantellata e prevenire il suo slittamento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teggere il piede della struttura dalla formazione di scav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evenire la fuga di materiale dagli strati interni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fornire una stabilità strutturale contro cedimenti globali (fondazione+struttura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imensionamento della berma al piede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2C37-7143-4396-9977-71FF77A26DDD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794040" y="2438280"/>
                <a:ext cx="279720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÷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3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ρ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5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822600" y="2514600"/>
            <a:ext cx="23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Da studi sperimentali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728520" y="3519360"/>
            <a:ext cx="487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i="1" lang="it-IT" sz="1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=2H o B</a:t>
            </a:r>
            <a:r>
              <a:rPr b="0" i="1" lang="it-IT" sz="18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=0.4h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 (comunque almento 3 scogl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835440" y="4011480"/>
                <a:ext cx="191772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ρ</m:t>
                                        </m:r>
                                      </m:e>
                                      <m:sub>
                                        <m:r>
                                          <m:t xml:space="preserve">a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ρ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4" name=""/>
          <p:cNvSpPr/>
          <p:nvPr/>
        </p:nvSpPr>
        <p:spPr>
          <a:xfrm>
            <a:off x="685800" y="4038480"/>
            <a:ext cx="245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Tanimoto et al, 198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(Strutture verticali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870360" y="5154480"/>
                <a:ext cx="4627440" cy="16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3</m:t>
                                  </m:r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K</m:t>
                                      </m:r>
                                    </m:num>
                                    <m:den>
                                      <m:sSup>
                                        <m:e>
                                          <m:r>
                                            <m:t xml:space="preserve">K</m:t>
                                          </m:r>
                                        </m:e>
                                        <m:sup>
                                          <m:f>
                                            <m:fPr>
                                              <m:type m:val="lin"/>
                                            </m:fPr>
                                            <m:num>
                                              <m:r>
                                                <m:t xml:space="preserve">1</m:t>
                                              </m:r>
                                            </m:num>
                                            <m:den>
                                              <m:r>
                                                <m:t xml:space="preserve">3</m:t>
                                              </m:r>
                                            </m:den>
                                          </m:f>
                                        </m:sup>
                                      </m:sSup>
                                    </m:den>
                                  </m:f>
                                  <m:f>
                                    <m:num>
                                      <m:sSub>
                                        <m:e>
                                          <m:r>
                                            <m:t xml:space="preserve">h</m:t>
                                          </m:r>
                                        </m:e>
                                        <m:sub>
                                          <m:r>
                                            <m:t xml:space="preserve">t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r>
                                        <m:t xml:space="preserve">H</m:t>
                                      </m:r>
                                    </m:den>
                                  </m:f>
                                  <m:r>
                                    <m:t xml:space="preserve">+</m:t>
                                  </m:r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exp</m:t>
                                  </m:r>
                                  <m:d>
                                    <m:dPr>
                                      <m:begChr m:val="["/>
                                      <m:endChr m:val="]"/>
                                    </m:dPr>
                                    <m:e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.</m:t>
                                      </m:r>
                                      <m:r>
                                        <m:t xml:space="preserve">5</m:t>
                                      </m:r>
                                      <m:f>
                                        <m:num>
                                          <m:sSup>
                                            <m:e>
                                              <m:d>
                                                <m:dPr>
                                                  <m:begChr m:val="("/>
                                                  <m:endChr m:val=")"/>
                                                </m:dPr>
                                                <m:e>
                                                  <m:r>
                                                    <m:t xml:space="preserve">1</m:t>
                                                  </m:r>
                                                  <m:r>
                                                    <m:t xml:space="preserve">−</m:t>
                                                  </m:r>
                                                  <m:r>
                                                    <m:t xml:space="preserve">K</m:t>
                                                  </m:r>
                                                </m:e>
                                              </m:d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num>
                                        <m:den>
                                          <m:sSup>
                                            <m:e>
                                              <m:r>
                                                <m:t xml:space="preserve">K</m:t>
                                              </m:r>
                                            </m:e>
                                            <m:sup>
                                              <m:f>
                                                <m:fPr>
                                                  <m:type m:val="lin"/>
                                                </m:fPr>
                                                <m:num>
                                                  <m:r>
                                                    <m:t xml:space="preserve">1</m:t>
                                                  </m:r>
                                                </m:num>
                                                <m:den>
                                                  <m:r>
                                                    <m:t xml:space="preserve">3</m:t>
                                                  </m:r>
                                                </m:den>
                                              </m:f>
                                            </m:sup>
                                          </m:sSup>
                                        </m:den>
                                      </m:f>
                                      <m:f>
                                        <m:num>
                                          <m:sSub>
                                            <m:e>
                                              <m:r>
                                                <m:t xml:space="preserve">h</m:t>
                                              </m:r>
                                            </m:e>
                                            <m:sub>
                                              <m:r>
                                                <m:t xml:space="preserve">t</m:t>
                                              </m:r>
                                            </m:sub>
                                          </m:sSub>
                                        </m:num>
                                        <m:den>
                                          <m:r>
                                            <m:t xml:space="preserve">H</m:t>
                                          </m:r>
                                        </m:den>
                                      </m:f>
                                    </m:e>
                                  </m:d>
                                </m:e>
                              </m:mr>
                              <m:mr>
                                <m:e>
                                  <m:r>
                                    <m:t xml:space="preserve">1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8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h</m:t>
                            </m:r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kh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kB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32767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477120" y="2590920"/>
            <a:ext cx="24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3366"/>
                </a:solidFill>
                <a:latin typeface="Arial"/>
              </a:rPr>
              <a:t>(CIAD Report, 1985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09560" y="5410080"/>
            <a:ext cx="245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Numero di stabilità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60958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rametro associato alla massima velocità orizzontal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sercitazion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101080" y="189000"/>
            <a:ext cx="6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B28D6-176A-46B4-A0D9-474FE26F8ED3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19000" y="2514600"/>
            <a:ext cx="832500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Dimensionare un frangiflutti in materiale sciolto sotto le seguenti condizioni di progetto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rofondità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5.5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Pendenza della spiaggia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1:2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ssima altezza di progetto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1.7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nda di progetto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s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= 2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1/10 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= 2.5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m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= 8 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L</a:t>
            </a:r>
            <a:r>
              <a:rPr b="0" lang="it-IT" sz="18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 = 100 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Overtopping ammissibile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0.1 m</a:t>
            </a:r>
            <a:r>
              <a:rPr b="0" lang="it-IT" sz="1800" spc="-1" strike="noStrike" baseline="30000">
                <a:solidFill>
                  <a:srgbClr val="003366"/>
                </a:solidFill>
                <a:latin typeface="Arial"/>
              </a:rPr>
              <a:t>3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/sec/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Materiale mantellata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3366"/>
                </a:solidFill>
                <a:latin typeface="Arial"/>
              </a:rPr>
              <a:t>scogli naturali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nda di proget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48B5-D3C8-485A-92D7-4AC2E2EA7F95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98560" y="2797200"/>
            <a:ext cx="7345440" cy="25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Usualmente viene adottata 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1/3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ma può essere adottata 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1/10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per ridurre i costi di riparazion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e barriere frangiflutti a scogliera possono essere poste sia prima che dopo la zona dei frangenti. È dunque necessario determinare sia l’onda di progetto che quella limitata per frangimento e scegliere la più piccola delle due grandezz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e la profondità di imbasamento varia si procede per segmenti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arametri di proget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E77A2-C4A5-4C79-897F-0182715963EF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14065" t="19896" r="13282" b="28498"/>
          <a:stretch/>
        </p:blipFill>
        <p:spPr>
          <a:xfrm>
            <a:off x="3505320" y="3948120"/>
            <a:ext cx="5638680" cy="2909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914400" y="2362320"/>
            <a:ext cx="6934320" cy="26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ofondità in riferimento al livello del mare di progetto (DW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altezza della cresta del frangiflutti in riferimento al DW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altezza della sovrastruttura sul DW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rofondità della struttura rispetto al livello medio del mare (SW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arghezza della crest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larghezza della berm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ndenza della scogliera lato mar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b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ndenza della scogliera lato spiaggi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pessore dello stra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W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so dell’element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ced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B9DC-977C-4952-94D4-0C010C40CE26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2895480"/>
            <a:ext cx="761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pecificazione delle condizioni di progetto -&gt; onda di progetto (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1/3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max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T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L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0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 profondità, livello del mare, overtopping, frangimento, scopo della struttura, etc..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Stabilire le dimensione del frangiflutti -&gt; h,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c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R,h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t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B,</a:t>
            </a: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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Calcolo delle dimensioni e del peso delle unità della mantellata e del numero degli strati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Dimensionamento del piede della struttura e dello strato di filtro e/o di posa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Verifica della fondazione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476280" indent="-476280" algn="just">
              <a:spcBef>
                <a:spcPts val="1001"/>
              </a:spcBef>
              <a:buClr>
                <a:srgbClr val="003366"/>
              </a:buClr>
              <a:buFont typeface="Arial"/>
              <a:buAutoNum type="arabicPeriod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Correzione dei parametri e ricalcolo se necessari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Run Up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4AFB-A492-420A-B019-DD00939465A1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0"/>
            <a:ext cx="76197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Il run-up può essere determinato dal parametro di frangimento </a:t>
            </a:r>
            <a:r>
              <a:rPr b="0" lang="it-IT" sz="1600" spc="-1" strike="noStrike">
                <a:solidFill>
                  <a:srgbClr val="003366"/>
                </a:solidFill>
                <a:latin typeface="Symbol"/>
                <a:ea typeface="Symbol"/>
              </a:rPr>
              <a:t></a:t>
            </a:r>
            <a:r>
              <a:rPr b="0" lang="it-IT" sz="1600" spc="-1" strike="noStrike" baseline="-25000">
                <a:solidFill>
                  <a:srgbClr val="003366"/>
                </a:solidFill>
                <a:latin typeface="Arial"/>
              </a:rPr>
              <a:t>m</a:t>
            </a: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 e dal permeabilità del nucleo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219320" y="2895480"/>
                <a:ext cx="1611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α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sSub>
                              <m:e>
                                <m:r>
                                  <m:t xml:space="preserve">L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219320" y="3505320"/>
                <a:ext cx="388620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aξ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per 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bξ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m</m:t>
                                </m:r>
                              </m:e>
                              <m:sup>
                                <m:r>
                                  <m:t xml:space="preserve">c</m:t>
                                </m:r>
                              </m:sup>
                            </m:sSup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per </m:t>
                        </m:r>
                        <m:sSub>
                          <m:e>
                            <m:r>
                              <m:t xml:space="preserve">ξ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       per strutture permeabil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8" name="" descr=""/>
          <p:cNvPicPr/>
          <p:nvPr/>
        </p:nvPicPr>
        <p:blipFill>
          <a:blip r:embed="rId1"/>
          <a:srcRect l="29687" t="51077" r="15626" b="27421"/>
          <a:stretch/>
        </p:blipFill>
        <p:spPr>
          <a:xfrm>
            <a:off x="4267080" y="2819520"/>
            <a:ext cx="4876920" cy="1393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90720" y="4724280"/>
            <a:ext cx="761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Per tener conto della scabrezza, della pendenza e dell’overtopping si utilizza un fattore di riduzion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95280" y="5791320"/>
                <a:ext cx="228600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uR</m:t>
                        </m:r>
                      </m:sub>
                    </m:sSub>
                    <m:r>
                      <m:t xml:space="preserve">/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u</m:t>
                            </m:r>
                          </m:sub>
                        </m:sSub>
                        <m:r>
                          <m:t xml:space="preserve">/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1" name=""/>
          <p:cNvGraphicFramePr/>
          <p:nvPr/>
        </p:nvGraphicFramePr>
        <p:xfrm>
          <a:off x="4194000" y="5129280"/>
          <a:ext cx="4950000" cy="1728720"/>
        </p:xfrm>
        <a:graphic>
          <a:graphicData uri="http://schemas.openxmlformats.org/drawingml/2006/table">
            <a:tbl>
              <a:tblPr/>
              <a:tblGrid>
                <a:gridCol w="3353040"/>
                <a:gridCol w="15969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duction factor </a:t>
                      </a:r>
                      <a:r>
                        <a:rPr b="0" lang="it-IT" sz="1400" spc="-1" strike="noStrike">
                          <a:solidFill>
                            <a:srgbClr val="003366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mpermeabile e liscio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 strato di scogli su una base di ghiaia impermeabile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hiai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ietrame roccioso con spessore &gt; 2D5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5-0.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topp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4D06-2144-4654-B8D6-CAC73D55D758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2590920"/>
            <a:ext cx="761976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L’overtopping dipende da: massima altezza relativa della struttura (R/Hs), periodo dell’onda, pendenza dell’onda, permeabilità, porosità e scabrezza della superficie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Usualmente l’overtopping di una struttura a scogliera può essere tollerato a meno che non sia causa di danni dietro la struttur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R viene determinata in base a valori accettabili della portata media tracimata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752480" y="4267080"/>
                <a:ext cx="629604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  <m:sup/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</m:rad>
                    <m:r>
                      <m:rPr>
                        <m:lit/>
                        <m:nor/>
                      </m:rPr>
                      <m:t xml:space="preserve">           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        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b</m:t>
                        </m:r>
                        <m:f>
                          <m:num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  <m:sup/>
                            </m:sSubSup>
                          </m:num>
                          <m:den>
                            <m:r>
                              <m:t xml:space="preserve">γ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990720" y="518148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3366"/>
                </a:solidFill>
                <a:latin typeface="Arial"/>
              </a:rPr>
              <a:t>Per pendii lisci e rettilinei (assenza di berme) e moto ondoso non limitato dalla profondità: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790560" y="5830920"/>
          <a:ext cx="4117680" cy="909720"/>
        </p:xfrm>
        <a:graphic>
          <a:graphicData uri="http://schemas.openxmlformats.org/drawingml/2006/table">
            <a:tbl>
              <a:tblPr/>
              <a:tblGrid>
                <a:gridCol w="982440"/>
                <a:gridCol w="627120"/>
                <a:gridCol w="627120"/>
                <a:gridCol w="627120"/>
                <a:gridCol w="627120"/>
                <a:gridCol w="626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ndenz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: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:1.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: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: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: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0.01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5587920" y="5788080"/>
          <a:ext cx="3143160" cy="909720"/>
        </p:xfrm>
        <a:graphic>
          <a:graphicData uri="http://schemas.openxmlformats.org/drawingml/2006/table">
            <a:tbl>
              <a:tblPr/>
              <a:tblGrid>
                <a:gridCol w="1949040"/>
                <a:gridCol w="11941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otezione di por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&lt;0.5 l/s/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eicoli sul frangiflut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&lt;0.01 l/s/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doni sul frangiflutti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Q&lt;0.05 l/s/m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75780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topp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3E6-C905-4A55-9D6E-4DCF63452A5C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0315" t="9140" r="23438" b="3719"/>
          <a:stretch/>
        </p:blipFill>
        <p:spPr>
          <a:xfrm>
            <a:off x="3657600" y="682560"/>
            <a:ext cx="548640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059280" y="404640"/>
            <a:ext cx="6359400" cy="6453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8101080" y="18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18FC-08A9-4B00-B886-4212F56BC551}" type="slidenum">
              <a:rPr b="0" lang="en-US" sz="18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75780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Overtopp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1T10:43:35Z</dcterms:created>
  <dc:creator>Rosaria Musumeci</dc:creator>
  <dc:description/>
  <dc:language>en-US</dc:language>
  <cp:lastModifiedBy>m</cp:lastModifiedBy>
  <dcterms:modified xsi:type="dcterms:W3CDTF">2010-06-07T15:22:43Z</dcterms:modified>
  <cp:revision>177</cp:revision>
  <dc:subject/>
  <dc:title>La relazione di dispersione</dc:title>
</cp:coreProperties>
</file>